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22584"/>
        <c:axId val="32496846"/>
      </c:barChart>
      <c:catAx>
        <c:axId val="10322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96846"/>
        <c:crosses val="autoZero"/>
        <c:auto val="1"/>
        <c:lblAlgn val="ctr"/>
        <c:lblOffset val="100"/>
        <c:noMultiLvlLbl val="0"/>
      </c:catAx>
      <c:valAx>
        <c:axId val="32496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22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29CB-28F8-4E45-8565-17786A9C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0DBE-5A17-4ADF-844A-B778DDFB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87FE-8A60-49D0-A124-096D80BC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1BA-00DE-447D-A14C-A00976A3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BD0-D739-4F04-866D-1992919F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DA0-DF99-44D1-B402-7D94FE28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BD0-6FBF-4D09-A594-855A5EC4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A39-F93A-46FC-A15B-8E2AC200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6E5-15D2-49AE-B521-D71E8C4E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A89B-3E65-4267-AD79-2E0ADB90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38C-9DF7-478E-B95D-F2FE2A07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4B3-40BF-4062-B226-578E44DD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A16DD-B3C1-40D8-8C6A-1525B84F3A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